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289-5911-4B0C-A2E8-EECEAFF8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85A-1346-47FC-A16E-A63E4D42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C203B-8C7E-4858-8279-19799A6D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A4168-037A-4DA9-B3E1-F00CABF4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AF5A2-1C1B-427E-BDFC-B63C53B2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57B1C-9AAD-4603-B8CC-96C46AED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5E4A0-92E9-4BA3-B9A3-11C46477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B4854-174A-44A9-8DBA-6CFF2DF5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402B9-0DA4-4EDF-AF84-4507681B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EA07E-0563-4E05-89B9-4EB3BD2B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63E6E-9CCF-4AF8-9AFA-2762228D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DBD30-DEE5-4498-94D2-9D60D7F0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F7E-0FA0-4DF5-8C0F-28B3C9B3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8CB50-901C-4ADD-A427-810A8A8E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9CB75-EA8D-4CA4-8E8B-9C47447E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9A5E0-BBC6-4CA5-A7B1-26809736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0CEF5-A8C0-4472-A520-C01AAAAC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F781B-547C-43BB-8357-A3B7164A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F7889-5503-4A31-8578-44E0B4EE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90CCA-1E22-43C0-AC27-BC91F305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D2667-92C4-4845-B66F-7BF5A541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9A2B1-5223-4BA1-A967-0477FD8F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68420-5579-45DB-B001-A254C86C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EA6-EC7D-40B9-BE76-21EBDB6C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D17A0-14AB-4B8D-8B87-9C2F781D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8E58C-B5CE-4CA2-9202-42B2DC2F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3828B-4B9B-49CA-8811-67A1D521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22C4C-7352-424B-A060-30200066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EC35E-5854-478A-9E09-7AF0818B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CBB65-A4D0-408A-AD77-99A55F94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2F0B3-C44C-4D83-9C3D-5380553E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91F99-B753-441A-8ABA-C75A2CF2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CB4AF-EBCC-4C4D-B453-F43C09F0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5618E-079C-40A5-9367-F587F528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0E68-E43D-4111-A540-1793775C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E28DA-127F-4B3A-886F-06AE0A55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0BE4B-C7B8-4DE0-8FA7-2F9D1C38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6B36F-9518-4AEB-94CA-3AD6A3F7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C2BA5-F301-43AC-9FAF-A625BB59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AE31F-0682-4833-8D55-CFBFE5FB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0A571-BAB8-4644-A780-D8A721EB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8AA6A-DCF0-40D3-8795-860A5EED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0E2AC-3653-4FE9-877D-5F2860ED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A0288-871A-4AAE-90FC-E9450CDB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72899-7F99-4EE9-B190-2E45C4CD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C81D-B9E7-452F-AAAF-78EF465B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522AB-7EEA-4440-B4D3-F2AB9670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8034F-95B7-4913-94AF-39FA1BA5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7FD9D-AF8F-45CD-906F-DD31FC47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59CE4-CA09-483C-9B0F-8FF817C2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73F25-F402-41A3-B7D2-004A6EC5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6AC3-9CE4-457A-8354-F1B6977C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352F-2EB0-4D25-9A05-BC88C706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15B8-719F-4EE4-85BC-5B285BF9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9EC3-A313-4F1B-829C-D4E8429D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F06D-C287-46AE-A996-91F5C6F8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EE8-EAF8-4279-B0C9-E656C32A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7863-9A05-4181-9301-545ED0A3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FEC9-4BFA-48C2-A876-AEFE1D17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4FEB-92A6-4F72-87CD-106140EE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1706-6E7E-438B-BE15-792CBC2B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1484-F5A2-4AC3-B055-AD33E731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38D4-D796-4C56-AE50-7C4080F4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F98BD-5F5A-4D75-9159-71AECB31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A72B0-8D9E-44D8-A31A-E8D70E64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F34F4-3726-4FC2-B30A-B4B9724F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1A43-3E53-4039-9179-D63F7652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C59-DAAF-4CF6-A20D-4B76EF21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D7A68-EEB9-42F6-8AD5-600AA19B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8BBEF-04E5-4948-AA96-BBD16E77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35B2C-137F-43A4-BEDD-D0C2933D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8569B-4E01-414F-AAE0-892A47F9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5FCC3-B8A4-43FD-90FC-D2D4677F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234B2-4705-42DA-84CA-6D8313F4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DEF5-99E0-4F88-9C33-797B2BFF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531BB-9E3D-463A-827E-D3165EC8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C70DE-A568-45AE-AA44-8ACB48F0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D20E6-9161-4F73-8923-2D111461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A2A-A9BD-41E0-B6CF-53802959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70D2A-23AF-4786-B803-CCAB8A34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8F06B-06D8-48A7-9579-4D4909D5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0F6DA-E893-4851-81BB-1BF25F1E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1ADFA-CD62-4C55-A04A-443F2177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7DC3A-1674-4994-8858-548C728D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131A4-E2E0-4B47-A851-A31C6CF7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0E66B-4502-4686-A9A9-AA2E2125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DD9EF-19B6-43AD-8552-CB0A0652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2BA51-811B-4087-9C62-EB512814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01E69-2810-4AD1-8950-A6CE643F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36EA-5C71-4A6C-9192-B55CB028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E766A-2FD3-49F8-A9B9-FA581E91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54B79-072F-4D37-9996-45BADBA5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C4EDE-241D-4177-8AA7-AFC95943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32D79-08F7-4C42-B72C-A6733C5D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C57A7-6105-43BE-9456-E068A915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51D11-E346-438C-8FB5-9A11702F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D5591-8781-43FB-B58C-55562909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600E8-31C5-4B5F-ADE5-27437818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6BB43-518F-4189-955C-6F5A588B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AA51D-6B5C-4CD5-A212-F012A927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33E-5999-4381-979F-8081A342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CB666-507D-476E-9195-E4B36CE2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3B312-7C3B-487D-8467-4904B8D2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77159-57A8-43A5-976E-0FEDB9B3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2ACB1-12A9-45B1-BA19-A296AD27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C4D73-BB4E-415C-9409-0908349B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12A93-D843-4229-BF01-BE3AD24A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F7404-AC09-4ABC-BEAC-9A5530F0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177B0-4ED2-4851-A7E5-DFA2C54F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13572-5BEA-4548-B5C3-A317A9AE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B045A-BDE3-44C4-B167-ECB16A13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85C-3B48-4850-A501-EA508D92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94459-8326-44E5-A6E7-F09F058F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427EB-A83F-4CBA-8457-66C4FF3C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B8A58-2E89-4F38-A175-4E1B4792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6FCE8-2226-4870-B9AB-19071C1D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D3364-95BC-487F-BDAC-A725FB2C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32BC1-D0B2-4A3D-88D2-1C870B1D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916F9-1838-4C1B-B076-5C89B5A3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03479-1377-4EE8-8AE1-1CBDC87D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C74FF-C403-445D-A303-6A04F702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E0968-221D-42C4-B3DC-48FE0FF2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0A0-C7B9-4BD1-9980-50EA5D63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6DD95-D24E-4CE8-A602-488539E2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12208-DDDA-41A6-AC6A-A9A53E22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1E81A-8D04-41E5-ADC4-B7B1F6BD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9CE4A-2E16-4DEC-ACA3-D7434304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643A8-10D8-45DC-8C5D-91F8D69B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D729D-4C93-4BD5-9A4D-62A3F204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AD18A-FCD7-418F-9AD7-CB160CD7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38B0C-2521-4B21-B49D-15BCDFF9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D26C0-893B-4D9C-9EF2-3AE37543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7244C-64CC-4161-9657-AD9FD8CA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375-BE0C-406D-A1DF-E0157306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07B9C-A8D9-4BCA-8AF0-9BBC7219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F7377-DD59-4FFB-8372-90B8020F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E0E9B-592D-4C70-9F36-89D15DEB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8A43B-E7DA-4163-BE69-4F0ABA89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FA4E5-467F-419E-8652-7F39EE68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ECEE5-2A0E-46EC-A361-70660C4E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5DDF6-D5F2-42F6-8539-960385D0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3F1BB-041E-4223-961A-F568A772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21B8B-8043-4E74-8A37-6B2CFE67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2D24A-CAA3-4DFB-91CE-7B4F0ADC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6176-5B5E-4DF1-AF80-D0C6D4DA7A7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762E-3796-4C21-B9C3-ACB817BDF4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30C0-3D97-4FC3-9009-8B3050403C6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558C-F284-4D9A-9385-1A971CF20D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FE6D-0E07-494F-9072-1984E4D9F519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3BFF-4C88-4932-B5F0-6528C2A0CD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311A-3527-409E-B3EA-AFAB5DD3185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731D-E507-4C34-AFE1-6D6B9B7939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9" name="Picture 18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C61E-C7A1-4359-9F96-A218AC197BC1}" type="datetime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058920" y="6165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575B-75C5-4658-AEF9-BE819BD9B239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2EF7-6C95-4CFC-8092-36D8D74E49E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5BE5-AEA0-4B9A-BAC4-965C076DA2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0AE6-C613-4E29-BA80-F8FB7427B912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16B7-70D9-4F4B-A5D0-3EA530C38F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51F7-0F33-4D63-874C-2CAA7692D37F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4356-AC68-4F16-9732-382488E584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639F-9362-40CA-9C5C-EAB2161C1ED9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0F71-43D0-4D44-85A8-86E5705DD3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454F-A2BB-43E6-AB47-3BCFD2FCD53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328F-2D3A-4944-B3AA-E545E0DD1B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8C7C-3980-4125-BC93-375344A3B10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958C-F535-4318-AA6F-B39CFB4315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A900-BD06-413E-8B1F-BA93899D965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44D9-1EC9-4005-B9A1-20A30627C7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cozlovaklara@csz.cz" TargetMode="Externa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882C-FEAD-4358-B550-8FA4D75F64CB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5C81-0CB4-46FE-BFC1-647128DB13BB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763128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CZ.1.04/3.4.04/26.00335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547280" y="4581360"/>
            <a:ext cx="60469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Klára Čmolíková Coz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Arial"/>
              </a:rPr>
              <a:t>Český svaz ž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C15F-26F3-4C38-A564-9C7B205737A0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6980-F313-464C-928B-ED8F1C878B25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Díky za Vaši pozornost.</a:t>
            </a:r>
            <a:br>
              <a:rPr sz="4800"/>
            </a:b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Prostor pro dotaz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2050560" y="4066920"/>
            <a:ext cx="604548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ozlovaklara@csz.cz</a:t>
            </a: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2A12-5C36-4261-B7A7-C6E31C4EEA00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BEB1-768E-4E78-AB24-751D1844E285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15640" y="1125000"/>
            <a:ext cx="77929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truktura prezent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í se na genderovou linii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stavení projektů ČSŽ a jejich hlavních cíl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869D-7F51-483D-92C5-61DB7291BA53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Genderová rovnost v projekte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amotné tvoření výzev obsahuje či neobsahuje téma (vědomě či nevědomě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ční tým a 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é zaměření (zvyšování povědomí o rovnost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ímé zaměření (zaměření se na rizikové skupiny a jejich posilován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aví vadí či nevadí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y ženské skupin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žský prvek a genderové stereoty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92E2-1DF0-4D41-9F21-C2015655E6EA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533B-C9B6-4783-9D01-F62836E91ABB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80438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rojekty ČSŽ pro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a žen při vstupu na trh práce a odstraňování bariér – Středočeský kraj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Z.1.04/3.4.04/26.003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genderovou lin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posílit dovednosti na trhu práce CZ.1.04/3.3.05/31.002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znevýhodnění na základě věk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70A3-75FD-468A-8CD2-B05DEF5FAD3D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6854-0B10-44D9-811E-C5C02C0468F3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7929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ová skupina a její specif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zaměstnané ženy, registrované na ú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eny (muži), pečující o dítě do 15 let vě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ové aktivity pro cílovou skupi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ítačové kurzy (základní, nadstavb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adenství (sociální, právní, psychologické, kariér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cká genderová rov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kendové školení aktivistek v prorodinné poli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ulaté stoly se zastupiteli a zastupitelk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Zaměření se na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1125000"/>
            <a:ext cx="40402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áno projektově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j. aktivity jsou poskytovány ve výjezdové formě (např. v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lad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Mla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Boleslav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Berou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říbra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etc.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le i v rámci Informačního a poradenského centra v Praze (poradenské a počítačové místnosti, zázemí projektu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649400" y="21463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Zástupný symbol pro zápatí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6. 6. 2011 Pragu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Zástupný symbol pro číslo snímku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C396-6328-4242-9E9E-C0DE49C6FC7E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rcRect l="15583" t="32889" r="36750" b="4591"/>
          <a:stretch/>
        </p:blipFill>
        <p:spPr>
          <a:xfrm>
            <a:off x="3995640" y="1341360"/>
            <a:ext cx="5148360" cy="532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D4D7-3AC5-409D-B616-4EF1341BE5AD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Zamě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68360" y="1700280"/>
            <a:ext cx="84866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ženy, genderově senzitivní přís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lé skupinky, podpora vytvoření podpůrné skupiny, individuální přís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lně si být vědomé genderových stereotypů a předsudků, nepodporovat je naopak proti nim bojovat a zvědomovat je i uživatelká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m cílem je posílení vlastních schopností uživatelek k překonání období nezaměstna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Zástupný symbol pro zápatí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Zástupný symbol pro číslo snímku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A303-D7A4-416F-B340-3AE2DAFF90EB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E9F7-28E3-491E-81E9-66DDF7712CFB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058D-E033-4079-B0BA-3E156BD217EA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15640" y="1077840"/>
            <a:ext cx="77929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Náš přístu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39280" y="1915920"/>
            <a:ext cx="819972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ividuální přístup nabízející adekvátní pomoc vzhledem ke konkrétní situaci uživatelky (včetně individuálního poradenství a vedení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ilování uživatelek ve schopnosti odhalit různé druhy diskriminace a náležitě se proti nim bránit (včetně možnosti právního poradenství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kytnout znalosti a dovednosti k tomu, aby byly schopné uspět na trhu prá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CV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četně průvodního dopisu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motivační dop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komunikovat s potenciálním zaměstnavatelem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se připravit na přijímací řízení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A32C-49D5-45CF-9978-37D1BD790C27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D3FD-E033-49FC-BCB8-CA15FE1B85CE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15640" y="1190160"/>
            <a:ext cx="77929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Problé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s legislativní zakotvení diskriminace stále existuje ve všech oblastech života, včetně zaměstnání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iskriminace je široce přijímána – jako prostý fakt, koncept diskriminace je brán za něco „doveženého“ a není pro nás témate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diskriminace se často nebrání, ani soudně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Strach z výsledku a budoucnosti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si nejsou jisté, jaký může mít případný soudní spor výsledek, soudní spory jsou náročné (časově, finančně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mají dostatečné informace (včetně průběhu a možností pomoci)</a:t>
            </a:r>
            <a:r>
              <a:rPr b="0" lang="cs-CZ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dostatečná informovanost o problematice je i v širší společnosti, bohužel i mezi profesionály a profesionálka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utnost respektovat rozhodnutí uživatelk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7:06:48Z</dcterms:created>
  <dc:creator>Klára Cozlová</dc:creator>
  <dc:description/>
  <dc:language>en-US</dc:language>
  <cp:lastModifiedBy>prednaska</cp:lastModifiedBy>
  <dcterms:modified xsi:type="dcterms:W3CDTF">2011-07-27T08:04:11Z</dcterms:modified>
  <cp:revision>49</cp:revision>
  <dc:subject/>
  <dc:title>The position of seniors and people over 50 in Czech republic and advocacy services for discrimination victims</dc:title>
</cp:coreProperties>
</file>